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E6837-7317-4418-B1D3-3293E54C8F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93DC-DF13-4D4C-86EA-980F8704F2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5719F-6459-4612-B12B-A33627AD8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5426-1490-4A51-9648-A4EEC29E9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5A77-BC25-4595-A043-9504EA3C88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74A2-E977-49F2-BE4F-C280AAFE2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610C-29E9-47A5-8883-92E3FE89D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BAE-756E-462D-9E55-D5C9C1137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CBDC-EC54-456A-8F76-A1760F66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9EC4-6CCA-4719-838B-B38E48C2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6E5-60C5-4802-8095-7CCE3AA6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54F-FCBB-4A52-B6E3-F7ECDD28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75A1-668E-4754-9B14-56104805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3096-CF08-4E54-98EE-6292D0585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B994-6DF3-40F6-A9D0-ED27CDCB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F4C-486F-432B-935E-6AE7252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145D-91EB-49FB-963B-989146A1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76B9-30D1-4777-B375-BC089E2C0D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– Hurricane Beryl Upd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ll Sny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siness Standards Consul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EP Tex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Hurricane Beryl Respons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EP Texas experienced 35,494 customer outages at the peak on 7/8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rvice areas of El Campo and Bay City sustained the most damag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pproximately 17,750 customers were restored by 8am, 7/9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bout 27,650 customers were restored by 7/10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3,350 customers were restored by 7/11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4,400 customers (97% of peak customer outage) were restored by 7/12/2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iterate the importance of having customer contact information to aid in our communic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’ AMS Interval Dat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Catastrophic Estimation Process (CEP) was put in place on 7/7 and turned off on 7/16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ny non-communicating AMS meters were applied Zero-Actual usage for missing interval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As meter communications returned, interval data recovered replaced any Zero-Actuals and normal estimation routines resum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Questions or Comments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000000"/>
                </a:solidFill>
                <a:uFillTx/>
                <a:latin typeface="Calibri"/>
              </a:rPr>
              <a:t>Please contact your Account Manager: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Toney Gutierrez (trgutierrez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Melinda Earnest (mdearnest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Bill Snyder (wrsnyder@aep.com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We look forward to helping you.  Thank you!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54:04Z</dcterms:created>
  <dc:creator>wtso904</dc:creator>
  <dc:description/>
  <dc:language>en-US</dc:language>
  <cp:lastModifiedBy>Hanson, Pamela</cp:lastModifiedBy>
  <dcterms:modified xsi:type="dcterms:W3CDTF">2024-07-31T22:21:42Z</dcterms:modified>
  <cp:revision>77</cp:revision>
  <dc:subject/>
  <dc:title>2018 CRR Worksh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69f43042-6bda-44b2-91eb-eca3d3d484f4_Enabled">
    <vt:lpwstr>true</vt:lpwstr>
  </property>
  <property fmtid="{D5CDD505-2E9C-101B-9397-08002B2CF9AE}" pid="3" name="MSIP_Label_69f43042-6bda-44b2-91eb-eca3d3d484f4_Name">
    <vt:lpwstr>AEP Internal</vt:lpwstr>
  </property>
  <property fmtid="{D5CDD505-2E9C-101B-9397-08002B2CF9AE}" pid="4" name="MSIP_Label_69f43042-6bda-44b2-91eb-eca3d3d484f4_SiteId">
    <vt:lpwstr>15f3c881-6b03-4ff6-8559-77bf5177818f</vt:lpwstr>
  </property>
  <property fmtid="{D5CDD505-2E9C-101B-9397-08002B2CF9AE}" pid="5" name="MSIP_Label_7084cbda-52b8-46fb-a7b7-cb5bd465ed85_ActionId">
    <vt:lpwstr>b3af63e1-7e58-41e9-b47c-a495212f6708</vt:lpwstr>
  </property>
  <property fmtid="{D5CDD505-2E9C-101B-9397-08002B2CF9AE}" pid="6" name="MSIP_Label_7084cbda-52b8-46fb-a7b7-cb5bd465ed85_ContentBits">
    <vt:lpwstr>0</vt:lpwstr>
  </property>
  <property fmtid="{D5CDD505-2E9C-101B-9397-08002B2CF9AE}" pid="7" name="MSIP_Label_7084cbda-52b8-46fb-a7b7-cb5bd465ed85_Enabled">
    <vt:lpwstr>true</vt:lpwstr>
  </property>
  <property fmtid="{D5CDD505-2E9C-101B-9397-08002B2CF9AE}" pid="8" name="MSIP_Label_7084cbda-52b8-46fb-a7b7-cb5bd465ed85_Method">
    <vt:lpwstr>Standard</vt:lpwstr>
  </property>
  <property fmtid="{D5CDD505-2E9C-101B-9397-08002B2CF9AE}" pid="9" name="MSIP_Label_7084cbda-52b8-46fb-a7b7-cb5bd465ed85_Name">
    <vt:lpwstr>Internal</vt:lpwstr>
  </property>
  <property fmtid="{D5CDD505-2E9C-101B-9397-08002B2CF9AE}" pid="10" name="MSIP_Label_7084cbda-52b8-46fb-a7b7-cb5bd465ed85_SetDate">
    <vt:lpwstr>2024-07-31T22:21:04Z</vt:lpwstr>
  </property>
  <property fmtid="{D5CDD505-2E9C-101B-9397-08002B2CF9AE}" pid="11" name="MSIP_Label_7084cbda-52b8-46fb-a7b7-cb5bd465ed85_SiteId">
    <vt:lpwstr>0afb747d-bff7-4596-a9fc-950ef9e0ec45</vt:lpwstr>
  </property>
  <property fmtid="{D5CDD505-2E9C-101B-9397-08002B2CF9AE}" pid="12" name="bjClsUserRVM">
    <vt:lpwstr>[]</vt:lpwstr>
  </property>
  <property fmtid="{D5CDD505-2E9C-101B-9397-08002B2CF9AE}" pid="13" name="bjDocumentLabelXML">
    <vt:lpwstr>&lt;?xml version="1.0" encoding="us-ascii"?&gt;&lt;sisl xmlns:xsd="http://www.w3.org/2001/XMLSchema" xmlns:xsi="http://www.w3.org/2001/XMLSchema-instance" sislVersion="0" policy="e9c0b8d7-bdb4-4fd3-b62a-f50327aaefce" origin="userSelected" xmlns="http://www.boldonj</vt:lpwstr>
  </property>
  <property fmtid="{D5CDD505-2E9C-101B-9397-08002B2CF9AE}" pid="14" name="bjDocumentLabelXML-0">
    <vt:lpwstr>ames.com/2008/01/sie/internal/label"&gt;&lt;element uid="50c31824-0780-4910-87d1-eaaffd182d42" value="" /&gt;&lt;/sisl&gt;</vt:lpwstr>
  </property>
  <property fmtid="{D5CDD505-2E9C-101B-9397-08002B2CF9AE}" pid="15" name="bjDocumentSecurityLabel">
    <vt:lpwstr>AEP Internal</vt:lpwstr>
  </property>
  <property fmtid="{D5CDD505-2E9C-101B-9397-08002B2CF9AE}" pid="16" name="bjLabelHistoryID">
    <vt:lpwstr>{0557F10A-6A56-43B3-ACFE-6F20D93BF3AE}</vt:lpwstr>
  </property>
  <property fmtid="{D5CDD505-2E9C-101B-9397-08002B2CF9AE}" pid="17" name="bjSaver">
    <vt:lpwstr>g9MBNFIm1AnXQ6kD5Gf85Ru3/IJon+J6</vt:lpwstr>
  </property>
  <property fmtid="{D5CDD505-2E9C-101B-9397-08002B2CF9AE}" pid="18" name="docIndexRef">
    <vt:lpwstr>98d37f10-91c5-460a-a0b0-34e82b675332</vt:lpwstr>
  </property>
</Properties>
</file>