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2A40-CF7D-4944-BBFC-256944E15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8320-2160-4A14-83CF-264936DEB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F57A-A1B7-4C29-88C2-465D0BEC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B5C3-642E-426F-82B7-8B55F8BF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1D35-D237-477A-969B-14F28815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C9B1-DE67-4850-A8EB-95E3FB34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4138-19FB-4B77-9648-3E743B07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3825-776B-478D-BA31-67B3DC3F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F43C-9921-41B5-BF57-E4541FC4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540A-E39A-40E5-BF82-055EBC36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B2D9-9F18-48D2-98F8-37CF31A5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4C7F-386A-4E51-A5A9-3731697C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CF1B-407E-4E8F-907E-E07B0F3D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BC07-2F21-4727-AB50-1CA90660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CBD4-4ED6-4906-87CA-B3393BB1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E09B-6625-4EDA-9BEB-4B36F822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5A79-32CC-418A-882A-D85E862F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1CFC-0853-4900-BBEF-11988815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6001-0C02-49AA-B49D-712F9790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B30AE-F1A3-43D8-B297-1B4850A0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B4490-F3FE-40EC-B42B-9A63C57C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3EB2E-E472-4451-83BA-AB7D4AFE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CF207-386E-4508-ADD8-8F9C72AA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ABBBB-9EEB-4794-AD3F-366C14CF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AF19-A033-450A-8D93-91F7F4B6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CAC2B-DA65-4DA8-94BB-DFDABA89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F557D-2F78-4624-A4D1-796E3A0B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5F8BE-F6E5-409C-91D5-BDCE9E63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09060-36DD-492C-9469-DCABAE75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11374-7069-4E70-B0C3-61DA1A99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A48BD-7BB9-40DC-A413-33F9C8A0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207FE-DF6E-4087-AE22-6CE1FE40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B6B06D-7F49-423C-BA09-99CBC89E3BC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D241C3-59A9-48FD-8217-2E3C9D49A8F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CEAA7A-2D57-47E7-BD48-AEE7FEF67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2ED2E-F54A-43D2-8938-895F4CA6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0938E4-EB40-4E2E-8CFD-F5BDD9107C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8CB47B-3EEE-451E-A97A-12D0A42B78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3FAAF9-0D6C-42C4-B56B-B1F62698A2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483FA2-A164-4D0B-8CCF-DD5CE2B41A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FDDE95-E072-48C4-9CE1-7D837EA00D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3537EE-207D-4D8A-98B3-FD0E8B927C8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79D5A-7D5D-441A-8F52-E01EFECD71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AA0689-011B-4FAA-AA8F-D284A0A6C6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3710C2-0908-4FD3-9118-C5CBD92A7A9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B058-5A03-424E-AE1C-FDF85714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FF05-7D92-4FD0-86F5-1935F3A0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042F-9364-4FE7-85E2-98989D77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0A49-D503-4F3F-93E8-2F7F1A31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0CD5-F6BD-4F4F-910E-979642F4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C7CC-B8DE-41F7-92F8-E197278D9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1689-0982-4F00-A78A-D03062E9E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C7FF-3A98-498C-BFB5-26A53895A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8576-9E68-4B0F-A025-E1BC4BB0B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E2F2-7943-47B3-8E6F-23D0B8DC7D92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937B-675E-41A5-8257-4F9C6DFA8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Profiling Working Group (PW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December 10, 20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2024 Elected Lead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teve Pliler (Vis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Bill Snyder (A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D1BB-B597-47DD-B7F7-11F1B13E4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October PWG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114480" y="1085760"/>
            <a:ext cx="89154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ile Type BUSIDRRQ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BUSIDRRQ profile population will largely remain BUSIDRRQ due to outlier issues (EPS metering or unique premise feature) for most TDSPs.  TNMP will make a 2025 conversion pus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Validation Process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oing PWG leadership discussions w/ERCOT Forecasting have resulted tomorrow’s whiteboard meeting in workshop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d deliverables and data needs are among the meeting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AFD2-C589-4602-BA3F-46B406849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October PWG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114480" y="1085760"/>
            <a:ext cx="8915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ile Decision Tree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rdan introduced the LPGRR draft of the Excel-to-Word conversion, for PWG review and sugg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itial review will focus on formatting rather than con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B4FC-EE57-47B0-839C-E77587DA8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28600" y="1066680"/>
            <a:ext cx="8763120" cy="57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4171"/>
                </a:solidFill>
                <a:latin typeface="Arial"/>
              </a:rPr>
              <a:t>Next PWG meeting is in-person at ERCOT Bldg. E, Ste. 100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December 11, 2024 @ 9:30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Webex meeting info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</a:rPr>
              <a:t>AV Process Improvement Whiteboard agenda includ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 of TDSP manual workar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V pieces can be autom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aking versus overha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1"/>
          <p:cNvSpPr/>
          <p:nvPr/>
        </p:nvSpPr>
        <p:spPr>
          <a:xfrm>
            <a:off x="571680" y="382284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Upcomin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liler, Steven</cp:lastModifiedBy>
  <dcterms:modified xsi:type="dcterms:W3CDTF">2024-12-06T23:21:18Z</dcterms:modified>
  <cp:revision>1485</cp:revision>
  <dc:subject/>
  <dc:title>Instructions</dc:title>
</cp:coreProperties>
</file>