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53E0-AD16-4074-A798-76B545655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BEAE-8C60-43E3-8552-5C3A399A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E09D-8770-46F6-A211-E1F41EF6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F442-33BA-4359-B6E4-69EDCC7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E6A6-B992-4A8D-BF11-047E52DC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1CE2-B4DC-4977-A8FC-74211701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241E-E00B-48C9-9B8A-B3246DB0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C3F-DA7B-4313-A358-2E2970A6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2FA7-105B-4847-B76C-F99C020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941-D116-4F95-9A2C-ADD6547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0FE-AC47-448E-B1CD-6F8192E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4E9B-8833-4FA4-88F7-20C4F0A9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03D2-518D-42D3-BF6A-DDF47FF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67DA-5B3D-4AD9-ADA2-70051B2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674-DCCE-41DC-A93E-7E370B7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6F25-AC9A-4938-9C41-D415E8EB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A6F2-2637-43F1-8A69-B9655C45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E21A-9B15-42CB-939B-696FC819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22A-1A61-4C1E-B568-14E44816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5392-C4E5-4EE1-9B9D-C1FD28C4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7B41-705C-4E73-BB6A-F0B1E061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168B-78EE-4D6F-A20E-BDC76492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C088-1339-4601-9AFF-7763C2CC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B128-0619-4348-9DBE-88FA2129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8D69-4E41-4A91-B8F5-B6F82DA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B4EC-A2AB-47BD-BCFF-1B13A05F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13B4-4C8B-41E3-A2D9-2918304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0D3E-6E72-4E59-B560-338B2A7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21C2-BE03-4212-9CCD-10C2A42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FDAE-8EE6-4670-9E5D-C7E52B2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9FD4-6BCA-41FF-AA6C-C7116573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ACCD-116D-4E29-9F05-A078C602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88BC2-F6CB-4642-AF1E-ECC6D106F3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7F366-42AD-412E-96D5-BE35D20E12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FF9D6-C2FC-4BFC-AAEA-AAEEBA9DD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4F4-4101-46B0-A692-855AC20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C54F3-0CF0-4A01-9E75-5D833BDF96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90CFC-11A2-4E20-8CC6-8E2F64B3B5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3AB37-FCDA-4851-B5A2-A397C0737B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E5C7E-0258-4957-ACD6-18C0615F23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73A8A-0309-48DE-B692-501E27A5A0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05E52-1BED-4FDF-A0FB-EC02007256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A2881-3A02-4333-A0B7-19FEA438D4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94E08-8F11-4C07-B6FC-FC7BC7ECBB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2ECC1-5962-4E38-A831-1DEC106E54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120D-04DC-4121-9AFC-C3CC2B80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D0B5-6DBA-455A-BE62-5773B93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0E7E-F518-4D81-8805-AC4332F0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BACC-8A8E-411C-8C5B-F6D76F2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15D3-A939-44D7-B4AE-7F9BC6B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24E-AABB-4A2C-BFE0-C37FE2ED7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031-CD41-4CB0-9992-F0D9B0DD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49B9-70D0-41A2-986C-E31394E46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5D96-EAF5-43B3-918D-E9DDEACBE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F32-D7B3-40FE-B56E-7E53FC45BA73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493E-6817-4954-B561-FB20CC9B0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anuary 7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4 PWG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5783-3030-4A78-841A-F7B4B7B0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201680"/>
            <a:ext cx="89154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PWG meeting on December 11, 2024 was In-person/WebEx.  First in person meeting since March 20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 30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in-person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on BUS IDRRQ &amp; LRG Profile 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NMP to begin conversions in 2025 and should finish in Q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370 to move to BUSLRG with ~92 to remain as BUSIDR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A screenshot of a computer&#10;&#10;Description automatically generated"/>
          <p:cNvPicPr/>
          <p:nvPr/>
        </p:nvPicPr>
        <p:blipFill>
          <a:blip r:embed="rId1"/>
          <a:stretch/>
        </p:blipFill>
        <p:spPr>
          <a:xfrm>
            <a:off x="609480" y="3886200"/>
            <a:ext cx="74995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B330-0275-4151-AB63-4DE12FC2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446040" y="1279440"/>
            <a:ext cx="80773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Profiles and Load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load profiles and shapes are based on early/mid 2000s data with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of 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deployment of AMS and LSE data, load profiles and load shapes can now be reevaluated o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pulation of 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provide mor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’s preliminary analysis does indicate a shift of the load shape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urther in-depth analysis to be explored and discussed in 2025 with potential changes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C1BE-5149-4A7B-9762-D08DC374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114480" y="1219320"/>
            <a:ext cx="89154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nual Validation Processing Enhanc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OAL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: Improve accuracy of AV profile changes to minimize validation efforts on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mprovement Opportunities for ERCO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Active ESIs should be recognized as of December 31st (exclude inactive and deenergized 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Exclude ESI with no usage information for the past 12 m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mprovement Opportunities for TDSP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TDSPs are encouraged to send 814_20s within two billing periods to minimiz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482-FA2C-42F2-AFCB-C12379D2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28600" y="1066680"/>
            <a:ext cx="8763120" cy="38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Monday, Jan 13, 2025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rimary Discuss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for 2025 AV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1"/>
          <p:cNvSpPr/>
          <p:nvPr/>
        </p:nvSpPr>
        <p:spPr>
          <a:xfrm>
            <a:off x="533520" y="256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5-01-07T03:22:22Z</dcterms:modified>
  <cp:revision>1487</cp:revision>
  <dc:subject/>
  <dc:title>Instructions</dc:title>
</cp:coreProperties>
</file>