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D16-E670-484D-AEE5-37733BDA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D02-C0B0-4DA1-85FB-7411D217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0006-928F-4075-A4F3-35C20B09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824A-E57E-459A-A505-8D16176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F951-674B-44F8-8DF1-11D96927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7FE7-EF26-4D81-995F-94D71634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CCFA-D235-454B-8265-CB44DE38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3FF2-A7E1-452B-A61C-ECDE429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74EF-2DE0-4887-80AE-F79B47FD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4EB4-0899-4D6B-A079-209FD17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A7DC-DE9A-4E34-A91A-2836C4E0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7A2D-71A3-4405-ABEC-58656BA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E78-BD42-42DC-B501-880EE3C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8357-1427-4773-B51C-A4D6A875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7B81-F787-40CE-92B4-C53F101B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A48-AC7C-4F36-9B1A-61BC543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74A-ECE8-4128-8242-90A6449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F578-248E-4EFD-84DA-6973B290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9B6E-C7FD-4AE9-88B3-83E36D1D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AE6F-8374-4F54-AEFB-053CEB91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0385-BF78-4B7B-B8D0-11133DB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7351-69A4-4762-95C9-8E8F746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030B-2328-430E-ADA5-2C07B13F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BC64-5D90-4094-88B5-2D916D2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6FD4-CF65-4D98-AC1E-424768B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7092-D074-4615-BDE9-7F2A4768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5804-69DE-4A24-8EBB-C966398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1835-63C7-4FAD-9883-B44386B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3972-C8DE-43D8-B634-9CDBD84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9B8B-8CF4-4D8B-9A75-EB0E737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2ABD-B1EC-4A58-8ABC-13E5A0D4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B579-5C97-4CC5-B493-0BECEC06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98CF2-9525-42C4-A300-6AF6C29778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600F1-9651-43BE-BBCC-D23AF9C0F6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A644E-A530-4E90-A28F-62E34DB10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0B85-3571-4D46-A4F7-291C51E9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1C6B0-A78B-4EEF-BEEA-A56AA85BF2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8F5F1-C54E-40C5-8069-8ABCEB8C74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61EA4-F1FE-4ABC-9D82-D34FCDFEE9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99EBE-83A7-467A-90AC-278EC520D8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A2837-08CF-42E4-B37D-3EAD3A9B31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333D6-48FF-421A-96D4-C6D748F948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1B45D-5C4E-4FB6-BA1C-3AD0818BF7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D4DCF-4BCC-48DF-9503-0024CDE468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07670-BBF8-4DFA-9FAA-E80BFB4FB3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D8E-69F9-4A6B-8B3C-13539A09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F77B-5F2C-4D5A-93CF-5DEB1940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F661-5025-4089-8D8F-70EEED1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BD8C-7D6A-48D0-A394-074F373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81D5-707F-4731-94AE-CC4492B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FEE-FA3D-42C0-85A4-0AA23B00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72B1-F93A-4E4F-99DF-0C49E3FB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5CF-EF59-4F0B-A816-A6DE7FCF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2F6-6BFC-4E10-ABD2-A69EE3EE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19E2-AD6E-42D4-9905-3F09EE7C0ACA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7DE7-0960-4101-9889-E98B558C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February 11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5 PWG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8864-32BB-4F1D-9151-7BDC7E555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201680"/>
            <a:ext cx="8915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on BUS IDRRQ &amp; LRG Profile 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NMP to begin conversions in 2025 and should finish in Q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70 to move to BUSLRG with ~92 to remain as BUSIDR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A screenshot of a computer&#10;&#10;Description automatically generated"/>
          <p:cNvPicPr/>
          <p:nvPr/>
        </p:nvPicPr>
        <p:blipFill>
          <a:blip r:embed="rId1"/>
          <a:stretch/>
        </p:blipFill>
        <p:spPr>
          <a:xfrm>
            <a:off x="685800" y="2743200"/>
            <a:ext cx="7467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D6E-FB71-41B4-A61C-09104209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114480" y="1219320"/>
            <a:ext cx="89154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ification on Current Annual Validation Proces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nfi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De-energized/Inactive/Retired ESI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SII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de-energ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between 12/31/24 and 2/28/25 would be ex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BUSNODEM, BUSIDRRQ, BUSLRG, BUSOGFLT, NMLIGHT, NMFLT, and PV (WD/DG)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No Usage Months for BUS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Confirmation of monthly BUS Max Meter Demand Factor is based on calendar period not billing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A09-9E15-4105-8875-5F463186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14480" y="1219320"/>
            <a:ext cx="89154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nnual Validation Processing Kickoff Prep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RCOT to evaluate both RES &amp; BUS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AV processing to kickoff toward end of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DSPs to be notified via MarkeTrak by mid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nnual Validation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ebruar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PWG meeting will be dedicated on this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n-person meeting for Februar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to help facilitate a whiteboard work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Goal is to help minimize TDSP AV processing and provide market with most accurate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27DC-EAB5-4A1A-BD8A-4484B876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380880" y="1011240"/>
            <a:ext cx="830592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4 PWG Accomplish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commended suspension of 2024 Annual Valida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orked with ERCOT Forecasting Team to compare the beginning of AV against the current AV/Load Profile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ssessing and evaluating existing process of Profile Decision Tree methodology for BUS &amp; RES profiles and as it relates to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viewed draft LPGRR on conversion of Excel to Word format: LPG Appendix D, Profile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Memorialized and posted Purpose and Needs for Load Profiles and Annual Validation to PWG main page (to be reviewed annu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PWG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xplore enhancements to future AV process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ngage in market efforts related to load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upport and update continuing efforts for IDR/AMS transi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view enhancements to Load Profiling Guide where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294-FB82-409B-92E8-5EB795F5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28600" y="1066680"/>
            <a:ext cx="8763120" cy="38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[In-Person]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Wednesday, Feb 13, 2025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rimary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Load Profil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5-02-04T22:33:59Z</dcterms:modified>
  <cp:revision>1501</cp:revision>
  <dc:subject/>
  <dc:title>Instructions</dc:title>
</cp:coreProperties>
</file>