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859-CE69-4C34-9C30-2CD44CCC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32A-4023-4312-B363-AE3CAAFC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E3A0-7650-4BA0-ACFA-63A19840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D47D-C35B-4246-8AF4-39450D0F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76A-0254-4CEC-BDA2-13014A9B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5B52-F73C-44A5-A00B-C30BFFFB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128C-32B3-4F2D-B169-8EC78BF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6CBB-2AEB-4BB4-A91E-344D0D5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226C-7F0F-4D06-8BE5-8662275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9E2-AB6C-43E8-A990-3F5E7AF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C6C-9E1C-4AB8-A6C2-F87708D9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2A7E-50B5-4491-AEFF-A63DDE1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8530-628F-4565-A3C5-17E6EFD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C2C2-36E1-439B-BFC6-16175BC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0546-CC0D-4FE5-9E9D-36A0EEB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F398-EFB4-4A86-A1EB-572E69A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AEC8-2F2A-4372-8392-38547FDF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399-B0FF-477A-889E-5C3A1627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C9DF-AFED-4035-8849-169009CD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B5EF-1E62-41D3-B041-6FD54AC5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3D1A-B7A2-48F7-804E-01B82101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8AC2-2F61-4594-8B31-61D1BA72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8927-AE45-42C0-9CBC-E85AD45D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9EE1-9F66-4D3F-9192-5F6F0736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C4C9-265D-4201-9D9D-749283C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EBAB-DA32-46D7-B503-333DA2A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72CF-CDB2-46F5-A052-DE74FA9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A2EE-2159-4124-A35E-37C5828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201F-1173-43E0-9D1F-69C1D95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D7D3-0413-4CAA-A4D4-049ECD9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9644-D437-40ED-9688-70A7494E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A6A7-C094-400F-9A53-913875B0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FB9D4-CB51-4D9C-90CC-FAEFF591D9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65D32-79B3-4A6E-8961-2AC9C85014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63A99-96B7-415A-803F-D3F10008A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4F66-5CF5-4D1E-98AB-FEF7F94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A2BFC-7D0C-4DCA-A0F6-02139692DF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798B9-7184-42F2-8D59-8BB947DFDE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5B054-FA0E-43DC-A5DD-AFA4BFF58E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AA475-710C-40B4-B60C-B2506587E1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F4205-70AA-444E-8F5A-358037D94D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54791-F022-4E53-8CEC-E4C4023B3E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4FA1E-167C-4B4C-9253-ACEAB3BB35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13FD5-352E-4721-B0CD-C31EC2443C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7A6BC-76F1-4E11-BA67-9614329EBF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6BA6-8B0F-4A08-A0BC-93662697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230D-4377-4F71-99F7-67583632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3C57-11EE-4E39-9089-D732BAD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1605-0C2E-4EC1-A170-6235C51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33BB-8BB5-4716-A71A-EEEEA32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99CB-B6FB-4418-8723-050B056E0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84A-B025-422B-9639-C4999BA5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308-972B-4093-93DC-19D34AB6B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F635-D1A2-4056-BBCB-602960CDC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1AD-2483-462B-B886-0DC03AFC70EB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5696-19CB-4D9B-8801-1AA17279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pril 1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B21B-8C05-4342-8C9D-82F12519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" y="1201680"/>
            <a:ext cx="82296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 on BUS IDRRQ &amp; LRG Profile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V (RES &amp; BUS) Kick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notified TDSPs in early March with M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V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tial HI/LO WR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 CDDs/HDDs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LO/MED/HI Load Factor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40% Avg LF for LO a reasonable thresho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E78-9F55-4789-A8AB-46BFFB3D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6320" y="1066680"/>
            <a:ext cx="89154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onday, Apr 28, 2025 @ 1:00 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5 Annual Validation Update/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LPGRR, Profile Decision Tree Conversion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533520" y="24512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5-03-27T17:50:39Z</dcterms:modified>
  <cp:revision>1513</cp:revision>
  <dc:subject/>
  <dc:title>Instructions</dc:title>
</cp:coreProperties>
</file>